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74990-2D8E-49FF-82F8-F4EBF96B3BF2}"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71E5E0-32DA-4CBD-AAE9-CE45A8A17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85680" y="741240"/>
            <a:ext cx="4886640" cy="3665520"/>
          </a:xfrm>
          <a:prstGeom prst="rect">
            <a:avLst/>
          </a:prstGeom>
          <a:ln w="0">
            <a:noFill/>
          </a:ln>
        </p:spPr>
      </p:sp>
      <p:sp>
        <p:nvSpPr>
          <p:cNvPr id="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8E91B3-0F2D-48B9-87CE-802342916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985680" y="741240"/>
            <a:ext cx="4886640" cy="3665520"/>
          </a:xfrm>
          <a:prstGeom prst="rect">
            <a:avLst/>
          </a:prstGeom>
          <a:ln w="0">
            <a:noFill/>
          </a:ln>
        </p:spPr>
      </p:sp>
      <p:sp>
        <p:nvSpPr>
          <p:cNvPr id="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1E8030-F3E1-4FCE-AF66-6728FF6C7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85680" y="741240"/>
            <a:ext cx="4886640" cy="3665520"/>
          </a:xfrm>
          <a:prstGeom prst="rect">
            <a:avLst/>
          </a:prstGeom>
          <a:ln w="0">
            <a:noFill/>
          </a:ln>
        </p:spPr>
      </p:sp>
      <p:sp>
        <p:nvSpPr>
          <p:cNvPr id="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F3768E-ACA3-420E-9339-0CBF21A67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985680" y="741240"/>
            <a:ext cx="4886640" cy="3665520"/>
          </a:xfrm>
          <a:prstGeom prst="rect">
            <a:avLst/>
          </a:prstGeom>
          <a:ln w="0">
            <a:noFill/>
          </a:ln>
        </p:spPr>
      </p:sp>
      <p:sp>
        <p:nvSpPr>
          <p:cNvPr id="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1E64FD-93DB-4B88-A87D-DF1D097EC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985680" y="741240"/>
            <a:ext cx="4886640" cy="3665520"/>
          </a:xfrm>
          <a:prstGeom prst="rect">
            <a:avLst/>
          </a:prstGeom>
          <a:ln w="0">
            <a:noFill/>
          </a:ln>
        </p:spPr>
      </p:sp>
      <p:sp>
        <p:nvSpPr>
          <p:cNvPr id="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3D9CC0-0764-49BA-AF32-5EE8751A9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985680" y="741240"/>
            <a:ext cx="4886640" cy="3665520"/>
          </a:xfrm>
          <a:prstGeom prst="rect">
            <a:avLst/>
          </a:prstGeom>
          <a:ln w="0">
            <a:noFill/>
          </a:ln>
        </p:spPr>
      </p:sp>
      <p:sp>
        <p:nvSpPr>
          <p:cNvPr id="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331F7B-CF2A-46D9-96F8-F398CA61C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985680" y="741240"/>
            <a:ext cx="4886640" cy="3665520"/>
          </a:xfrm>
          <a:prstGeom prst="rect">
            <a:avLst/>
          </a:prstGeom>
          <a:ln w="0">
            <a:noFill/>
          </a:ln>
        </p:spPr>
      </p:sp>
      <p:sp>
        <p:nvSpPr>
          <p:cNvPr id="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E7250F-3655-4270-9662-4A50E7934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985680" y="741240"/>
            <a:ext cx="4886640" cy="3665520"/>
          </a:xfrm>
          <a:prstGeom prst="rect">
            <a:avLst/>
          </a:prstGeom>
          <a:ln w="0">
            <a:noFill/>
          </a:ln>
        </p:spPr>
      </p:sp>
      <p:sp>
        <p:nvSpPr>
          <p:cNvPr id="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63F8E0-EA24-487F-B6F1-53B2C51EF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985680" y="741240"/>
            <a:ext cx="4886640" cy="3665520"/>
          </a:xfrm>
          <a:prstGeom prst="rect">
            <a:avLst/>
          </a:prstGeom>
          <a:ln w="0">
            <a:noFill/>
          </a:ln>
        </p:spPr>
      </p:sp>
      <p:sp>
        <p:nvSpPr>
          <p:cNvPr id="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F5E4F8-394E-47DD-9CAF-BB7E73DFE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985680" y="741240"/>
            <a:ext cx="4886640" cy="3665520"/>
          </a:xfrm>
          <a:prstGeom prst="rect">
            <a:avLst/>
          </a:prstGeom>
          <a:ln w="0">
            <a:noFill/>
          </a:ln>
        </p:spPr>
      </p:sp>
      <p:sp>
        <p:nvSpPr>
          <p:cNvPr id="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6E269-563A-4462-A8DE-B19743B79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985680" y="741240"/>
            <a:ext cx="4886640" cy="3665520"/>
          </a:xfrm>
          <a:prstGeom prst="rect">
            <a:avLst/>
          </a:prstGeom>
          <a:ln w="0">
            <a:noFill/>
          </a:ln>
        </p:spPr>
      </p:sp>
      <p:sp>
        <p:nvSpPr>
          <p:cNvPr id="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8E34F9-49A5-472D-B5F0-80A07BA61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85680" y="741240"/>
            <a:ext cx="4886640" cy="3665520"/>
          </a:xfrm>
          <a:prstGeom prst="rect">
            <a:avLst/>
          </a:prstGeom>
          <a:ln w="0">
            <a:noFill/>
          </a:ln>
        </p:spPr>
      </p:sp>
      <p:sp>
        <p:nvSpPr>
          <p:cNvPr id="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F6E2B-3DA9-4F7D-B7C8-3D4C4A13F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985680" y="741240"/>
            <a:ext cx="4886640" cy="3665520"/>
          </a:xfrm>
          <a:prstGeom prst="rect">
            <a:avLst/>
          </a:prstGeom>
          <a:ln w="0">
            <a:noFill/>
          </a:ln>
        </p:spPr>
      </p:sp>
      <p:sp>
        <p:nvSpPr>
          <p:cNvPr id="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E8DE47-C05E-4FD7-99E8-6FE55AC00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85680" y="741240"/>
            <a:ext cx="4886640" cy="3665520"/>
          </a:xfrm>
          <a:prstGeom prst="rect">
            <a:avLst/>
          </a:prstGeom>
          <a:ln w="0">
            <a:noFill/>
          </a:ln>
        </p:spPr>
      </p:sp>
      <p:sp>
        <p:nvSpPr>
          <p:cNvPr id="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EFE45E-58C1-4E86-84FD-93BAA2C91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985680" y="741240"/>
            <a:ext cx="4886640" cy="3665520"/>
          </a:xfrm>
          <a:prstGeom prst="rect">
            <a:avLst/>
          </a:prstGeom>
          <a:ln w="0">
            <a:noFill/>
          </a:ln>
        </p:spPr>
      </p:sp>
      <p:sp>
        <p:nvSpPr>
          <p:cNvPr id="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4CDF9F-57BB-40F5-B1CF-D8C2BED4B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85680" y="741240"/>
            <a:ext cx="4886640" cy="3665520"/>
          </a:xfrm>
          <a:prstGeom prst="rect">
            <a:avLst/>
          </a:prstGeom>
          <a:ln w="0">
            <a:noFill/>
          </a:ln>
        </p:spPr>
      </p:sp>
      <p:sp>
        <p:nvSpPr>
          <p:cNvPr id="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1DC008-C5C2-452E-B5EC-02FE628A5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985680" y="741240"/>
            <a:ext cx="4886640" cy="3665520"/>
          </a:xfrm>
          <a:prstGeom prst="rect">
            <a:avLst/>
          </a:prstGeom>
          <a:ln w="0">
            <a:noFill/>
          </a:ln>
        </p:spPr>
      </p:sp>
      <p:sp>
        <p:nvSpPr>
          <p:cNvPr id="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D74AFB-2318-4854-99AE-6C15EC370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85680" y="741240"/>
            <a:ext cx="4886640" cy="3665520"/>
          </a:xfrm>
          <a:prstGeom prst="rect">
            <a:avLst/>
          </a:prstGeom>
          <a:ln w="0">
            <a:noFill/>
          </a:ln>
        </p:spPr>
      </p:sp>
      <p:sp>
        <p:nvSpPr>
          <p:cNvPr id="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06ECD6-57DD-4BFC-A853-73D7EE1F2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11CF3-595C-418A-9286-1E25EB452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85680" y="741240"/>
            <a:ext cx="4886640" cy="3665520"/>
          </a:xfrm>
          <a:prstGeom prst="rect">
            <a:avLst/>
          </a:prstGeom>
          <a:ln w="0">
            <a:noFill/>
          </a:ln>
        </p:spPr>
      </p:sp>
      <p:sp>
        <p:nvSpPr>
          <p:cNvPr id="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67ED1-CDE8-4C0D-A61F-56759A3C4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1665E0-36FE-4CED-BF54-737040A18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985680" y="741240"/>
            <a:ext cx="4886640" cy="3665520"/>
          </a:xfrm>
          <a:prstGeom prst="rect">
            <a:avLst/>
          </a:prstGeom>
          <a:ln w="0">
            <a:noFill/>
          </a:ln>
        </p:spPr>
      </p:sp>
      <p:sp>
        <p:nvSpPr>
          <p:cNvPr id="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9301B2-74CB-4DF2-9ED8-BE2563045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985680" y="741240"/>
            <a:ext cx="4886640" cy="3665520"/>
          </a:xfrm>
          <a:prstGeom prst="rect">
            <a:avLst/>
          </a:prstGeom>
          <a:ln w="0">
            <a:noFill/>
          </a:ln>
        </p:spPr>
      </p:sp>
      <p:sp>
        <p:nvSpPr>
          <p:cNvPr id="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5872FE-4A37-47B5-8ACF-9B0A6024C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985680" y="741240"/>
            <a:ext cx="4886640" cy="3665520"/>
          </a:xfrm>
          <a:prstGeom prst="rect">
            <a:avLst/>
          </a:prstGeom>
          <a:ln w="0">
            <a:noFill/>
          </a:ln>
        </p:spPr>
      </p:sp>
      <p:sp>
        <p:nvSpPr>
          <p:cNvPr id="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D3C97-BE27-43D7-AF14-5A0BFB97D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85680" y="741240"/>
            <a:ext cx="4886640" cy="3665520"/>
          </a:xfrm>
          <a:prstGeom prst="rect">
            <a:avLst/>
          </a:prstGeom>
          <a:ln w="0">
            <a:noFill/>
          </a:ln>
        </p:spPr>
      </p:sp>
      <p:sp>
        <p:nvSpPr>
          <p:cNvPr id="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A46361-E20D-413B-AF21-53AB60FC5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985680" y="741240"/>
            <a:ext cx="4886640" cy="3665520"/>
          </a:xfrm>
          <a:prstGeom prst="rect">
            <a:avLst/>
          </a:prstGeom>
          <a:ln w="0">
            <a:noFill/>
          </a:ln>
        </p:spPr>
      </p:sp>
      <p:sp>
        <p:nvSpPr>
          <p:cNvPr id="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67642F-5965-4E74-9D91-065C73FED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85680" y="741240"/>
            <a:ext cx="4886640" cy="3665520"/>
          </a:xfrm>
          <a:prstGeom prst="rect">
            <a:avLst/>
          </a:prstGeom>
          <a:ln w="0">
            <a:noFill/>
          </a:ln>
        </p:spPr>
      </p:sp>
      <p:sp>
        <p:nvSpPr>
          <p:cNvPr id="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979B9F-33B9-4AE5-B123-D75054D70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985680" y="741240"/>
            <a:ext cx="4886640" cy="3665520"/>
          </a:xfrm>
          <a:prstGeom prst="rect">
            <a:avLst/>
          </a:prstGeom>
          <a:ln w="0">
            <a:noFill/>
          </a:ln>
        </p:spPr>
      </p:sp>
      <p:sp>
        <p:nvSpPr>
          <p:cNvPr id="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D942C5-F345-4CC5-86A6-27AC74B109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9E9C2BF-1BD4-4E9A-947E-7FAE89EEE58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92751BDD-9808-4957-AAE4-0B53E7D088B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59B67EEF-8870-4CFA-8C24-73AD789FFF1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443395E-227F-4A76-8FB2-27186BCA304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B0DEF0C-23A4-433D-A5B8-BCC668102A5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1611328-1C71-4C11-8E22-69BE6E6FB53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2D61C26-8757-4AD2-8429-C0CD072B533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F96694D6-B5EE-4B3F-952C-DFEF8D93190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5BC771FF-4BA5-4C98-B7B5-53D6557132B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0B611C91-1F4C-4F6B-AF66-ADE5CA40A7C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1EFAAE9-5BB2-4EF2-ABE1-8A1C13B74F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99E964C1-686F-4A39-BA85-F404F6E1063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488F3BB-D35D-4E94-A2E7-68E07817253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ED88FE9-61FA-494B-B8B1-46130A03DB8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A7444159-269F-4D22-BF6C-F81A6195642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11CA2C23-9796-444B-A41E-276DAEBB007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6A2810E2-E583-49C2-99AF-A5A4A195A97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A055D45-83B9-45EC-B7BE-502CD3B6F0A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4004BD1-C51B-4354-9AAB-A4D0643573C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61A516B-A081-49E1-B826-2AF1CE4344D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9096948-3747-4DB8-84E0-BCA256596F4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132180A6-6980-4BE3-B265-917E89B4B8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F88D844-9153-42EE-A66F-751DB13665A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5921B43B-3587-4301-BC12-84907831058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19A3637-71CB-4623-8DA9-61F1AB1661C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BF48F4B-FD8F-4F95-A501-9EC8E9DEB06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AE0FB31-44E8-42C9-A7A3-DAC0E663685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904EA0C-A1CF-4C28-94B9-A1E245587DF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36000A23-7676-4C18-9BA3-1758BA1FB3D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3718B3A3-7104-4EE1-8BE9-5DACD68057D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7BB6DB1-B1BA-44E6-8E19-9F3D083F610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90D6811-A7A3-40D4-8289-92FA3E63849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90D1EFA-417E-4E01-B72B-CB0E8629AB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D53608-8056-4B08-AD7F-C18F5A73F3F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120FD16-593E-4EA8-B794-A0B6A5FFF2A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53436755-C843-47BA-BE2C-04CDCD85AFC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89EABBBD-DADB-4D44-99AB-4BE4115F6E9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13991E5-2B83-425F-8171-CD3C9758FD1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0D1C4D2-148F-4D6A-914F-A1B188F5ED3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D20B00A4-BF21-422A-A02E-4E0F3C5CE9F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1D2C261-61B0-4E4A-8F80-2EF5CF1041E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41B0F5BD-D7B8-48DD-96B0-1A42DEDD351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E26DFA42-8785-4D0D-8E34-7868F70B2C0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74B0DEB-8597-4B70-8B82-055F1C8E63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52AB0B3-0735-4081-8370-0D08C410DCF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92E45AF-056B-4CC1-AEF4-64114DA10FD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94AE8B5-518C-45C6-91D2-E302D67F8A6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A19A959-E443-457A-9267-51026E81745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9CA7524F-2C84-4A13-A28B-F9961C0A212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F633FEF4-73DF-4E61-88EA-6B4B7C8A5D9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E1B4E92-A7D7-440F-8864-210157B5397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EFBCD82-0B9C-4163-AE07-062CE3953E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F17C893-6EF7-4E83-8AA9-D32DBD38EB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9F43455-2A46-4223-ACF7-6AA114DD36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90AA2E94-5F88-45FE-BA24-8A321CCABE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C4BC44E-8E88-4920-B1E9-3BA5B6DC263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E6ACFD90-0667-4A0A-8A86-EEDAD67338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5FD7E1F-F026-486F-AA85-4935FF2306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392E734-37D2-4454-A682-7F66A5F316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FD621A8-83F2-45DE-BC95-611DD45535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917B03E-5ADF-4D80-8094-6438F7D009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87E3795E-7B79-4046-A989-E1B8E5555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108D69E3-D485-458E-B08E-3E892FCF4F7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6FF722D-22B5-4590-BDB3-7E93D12BD6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A6F1767-2566-4AD2-879F-4F8EA956C6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C0E2137-E83E-4552-8265-04FD156DD4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8175C5C-507C-4BDA-88BC-61DDA78FD7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5076D74-9E4C-4ADD-9090-F20904E451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4378423-8137-4AEA-A80E-46A75B1D8B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EBC6EA2-5275-4DF1-8D37-B85EE54E02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721AD3B-DC91-49E2-999A-8CCF0E7AEB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8EBDF27-58BE-4EAD-A45E-71C64A8937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C67CBD6-F001-40EF-B4E0-CC796242F7F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6CF2475-AD4F-4004-9D9B-1436D00F31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0D31B6-E039-4C8C-B082-B6E682B534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6C6707-7489-4929-AE05-C012D45C23A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3E52881-677C-4504-8254-3491F69F6E4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83352A-8763-42B1-A705-D73D4B822E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5556E02-D811-441F-B966-4EC55D0A386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BE2F02A-57AE-4ED0-A8CB-C8EED38B3D6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D9556BB-5A4F-4ED5-863B-E61F1254640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2299941-9042-4D41-911F-0A8717A4C9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B95B07D-F5EF-4D0F-8E27-F03F0910DEB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36CCDF6-14A7-44E9-9DB4-CF64A18321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A1EB7EBF-230F-423C-979B-9188FCC9756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09C77AD2-C2B1-4689-A56F-41D38A942B5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B69B16-D845-4E9B-8612-BBD0011AAC1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1456255-FFDB-49C2-99FD-CF0DD7682C8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10484194-B4E9-4EEF-B5CE-37A0F63750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B19F937-0D47-4390-A3EC-30AB3A9F4B7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15B406D-EEC3-4ADF-8C63-6124E277660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8B4457A0-FD52-4418-9F55-982249DADEE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6E80F388-3043-4D6E-8C74-B8D4972703A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15F57DB-9ADA-4C4B-8EFA-81D96976025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A45FA79-A7D0-4F85-B573-21A2C76746B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D701DD3-86C7-46A9-9346-863AB5AD3BD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E416A94-2D9C-457C-90F8-235E3E8FC2E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F0110BB5-2D6D-4B45-93BF-9A963EBC086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19E2672E-F4F6-41AE-846E-8AE36FCBCFF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DA2A247-A5E8-4D50-8F44-76D59C8B14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FF3433D1-EADF-4F2B-A856-A9FCA73195F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7D1EF433-3C86-469F-880E-24DE204FAB3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F4A15236-873A-4FAF-9FC1-66843247A7F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A1E43C0B-3337-4AFB-AAEF-26A864720E6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B7848D00-1407-4A17-AC12-70B70BCDDE2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A6D79448-5F65-4682-8391-3FA9DF0CF51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AE0413D-CB01-4CBF-B924-9AC0DD17322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C7ED2EF-A077-4A54-8E60-25BDF9C23F7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EEC3229-DB76-4572-ADB7-26AE0A573C0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1DEA86C-2AEB-432E-9876-F534B75429C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E460CF4E-86D3-4043-9C4F-2D81A2A8F3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0872A03-4C3F-455A-92DC-A2B058DEFC7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8F21AB32-3BCF-4E32-9D8E-23C5EF2CE52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3E83DD9-5A9E-4090-858E-11DF611D831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90BC62D-2A44-4362-A877-67A4E8DA4C4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0C19717-26B1-4446-8B4E-4261B3FD7E8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EBFA95EB-5A61-440B-BC0E-F608BF526EA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9810BDBB-707E-484E-AE72-8FF9A985D5E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4A962F6B-686E-40D0-9D83-3B4E4887AF1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D2FAFF8-8D88-4509-AF65-150D4F9705D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222A39F-80F7-4691-BE0B-5D57A2E8C0B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C27B3AF-F128-4AA3-8330-C11114BC55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4BA83AF-57A8-4ACC-B8B9-237F58252DC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5F10C32-EB84-441D-B2C7-894DBDAB680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D90C3578-4F5A-437E-BDF7-E4E33E2B0A8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B0C95578-22F3-46C5-8A6F-0F5C4F53C46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785545D-F68F-4695-B008-A6631CDCBEC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02114DA-CA01-4ED7-8A7D-342328FEDB3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DB0CA14-BA9C-428A-83F6-485E2A3D71D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18EE778-8A93-4ED2-9848-88A045C25D6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BC7BE686-D33E-4D22-B9B6-D50C7042C06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081CDCC4-291D-4BBE-890C-C25A163772A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4F19FCE-2624-477C-B731-9F900C007F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121B570-8A04-40DF-93DA-3EF585607E9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C96CAD6-4F19-4095-9D3C-6A8371348E3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8D23474-6A5D-438D-9527-2965B9E848B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3E68255-825F-4CEA-ACBE-8A40AA30E72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48AECCF7-D1E2-43D4-BE05-CF447A457E5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9821D31A-6A49-42C3-AA46-F0E8B84A269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1B2909D-CFD2-4C5F-83B0-B93D45B32EB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917F5F8-F2FB-4E2C-99B3-CA473891AC6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372463AC-F20F-44FB-8700-2F695B38233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61DD32B-EB41-4ACA-AAC8-CE6C8D10DB8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81BA33B9-027D-44CC-9C53-3C0F573710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CB2A2D9-879B-4D83-8BDD-BC38DF6DE46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F60784B2-CE3A-497C-B7B3-B5EB69AFCC7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B2C096C-87B0-44B0-A9F2-A2EE5B544DF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2ABCE22-B0DB-4F06-A966-2DB230E5AE3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017E046-EF32-47FD-82D8-64A4859DDB3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AFB2DFE-97E9-434F-9F97-E92B7935D48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9BB66F17-F531-443C-BEB8-1858FC82E76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F489AE0F-E145-4E47-9564-8D54680CDFE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FFB3688-E32C-49E2-92C5-56895904577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5D54373-5FCF-48E5-B220-C7AD6984B9F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F74F8A6D-B9B6-4472-96DC-63952AEFC8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6F340-68C6-484F-8A9D-E802C621B2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28ED3B-10AC-4EAD-B3CE-CE4F352D2B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C2595C-6815-40BF-A628-46AE77A8A6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D4B07-7332-4CFA-AA38-D4EAC21B25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B07F88-FA90-4F9F-9B20-15D5472797D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068C5D-F181-4B69-A22D-0EED78BE7F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AC032F-62C9-492E-89DE-5940DABC88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6F990B-68B5-40EC-B210-C3B435F16C2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33C88F-9EF7-439B-B5D7-8802CBC496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E7D037-E4CE-4D0B-93D2-C17F7372824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155AF6-C82F-4DAF-959A-19DCE61F5A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ED7A1F-E4B8-427A-AD0E-8B79AAB5E07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7F6B20-33D0-4143-A7C0-53F87E924B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0" y="2997360"/>
            <a:ext cx="892980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a:t>
            </a:r>
            <a:r>
              <a:rPr b="1" lang="en-US" sz="2400" spc="-1" strike="noStrike">
                <a:solidFill>
                  <a:srgbClr val="002060"/>
                </a:solidFill>
                <a:latin typeface="Times New Roman"/>
              </a:rPr>
              <a:t>024</a:t>
            </a:r>
            <a:r>
              <a:rPr b="1" lang="el-GR" sz="2400" spc="-1" strike="noStrike">
                <a:solidFill>
                  <a:srgbClr val="002060"/>
                </a:solidFill>
                <a:latin typeface="Times New Roman"/>
              </a:rPr>
              <a:t>-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0" y="115920"/>
            <a:ext cx="9140760" cy="6548400"/>
            <a:chOff x="0" y="115920"/>
            <a:chExt cx="9140760" cy="6548400"/>
          </a:xfrm>
        </p:grpSpPr>
        <p:grpSp>
          <p:nvGrpSpPr>
            <p:cNvPr id="622" name=""/>
            <p:cNvGrpSpPr/>
            <p:nvPr/>
          </p:nvGrpSpPr>
          <p:grpSpPr>
            <a:xfrm>
              <a:off x="0" y="115920"/>
              <a:ext cx="9140760" cy="6548400"/>
              <a:chOff x="0" y="115920"/>
              <a:chExt cx="9140760" cy="6548400"/>
            </a:xfrm>
          </p:grpSpPr>
          <p:sp>
            <p:nvSpPr>
              <p:cNvPr id="6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
        <p:nvSpPr>
          <p:cNvPr id="629" name=""/>
          <p:cNvSpPr/>
          <p:nvPr/>
        </p:nvSpPr>
        <p:spPr>
          <a:xfrm>
            <a:off x="324000" y="1128600"/>
            <a:ext cx="8640720" cy="4037040"/>
          </a:xfrm>
          <a:prstGeom prst="rect">
            <a:avLst/>
          </a:prstGeom>
          <a:noFill/>
          <a:ln w="0">
            <a:noFill/>
          </a:ln>
        </p:spPr>
        <p:style>
          <a:lnRef idx="0"/>
          <a:fillRef idx="0"/>
          <a:effectRef idx="0"/>
          <a:fontRef idx="minor"/>
        </p:style>
        <p:txBody>
          <a:bodyPr lIns="685440"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Η ημικυκλική διάταξη </a:t>
            </a:r>
            <a:br>
              <a:rPr sz="2800"/>
            </a:br>
            <a:r>
              <a:rPr b="0" lang="el-GR" sz="24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400"/>
            </a:br>
            <a:br>
              <a:rPr sz="2400"/>
            </a:br>
            <a:r>
              <a:rPr b="0" lang="el-GR" sz="24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Δημητρόπουλος, 2003).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
          <p:cNvGrpSpPr/>
          <p:nvPr/>
        </p:nvGrpSpPr>
        <p:grpSpPr>
          <a:xfrm>
            <a:off x="0" y="115920"/>
            <a:ext cx="9140760" cy="6548400"/>
            <a:chOff x="0" y="115920"/>
            <a:chExt cx="9140760" cy="6548400"/>
          </a:xfrm>
        </p:grpSpPr>
        <p:grpSp>
          <p:nvGrpSpPr>
            <p:cNvPr id="631" name=""/>
            <p:cNvGrpSpPr/>
            <p:nvPr/>
          </p:nvGrpSpPr>
          <p:grpSpPr>
            <a:xfrm>
              <a:off x="0" y="115920"/>
              <a:ext cx="9140760" cy="6548400"/>
              <a:chOff x="0" y="115920"/>
              <a:chExt cx="9140760" cy="6548400"/>
            </a:xfrm>
          </p:grpSpPr>
          <p:sp>
            <p:nvSpPr>
              <p:cNvPr id="6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
        <p:nvSpPr>
          <p:cNvPr id="638" name=""/>
          <p:cNvSpPr/>
          <p:nvPr/>
        </p:nvSpPr>
        <p:spPr>
          <a:xfrm>
            <a:off x="611280" y="1724040"/>
            <a:ext cx="8353440" cy="3728880"/>
          </a:xfrm>
          <a:prstGeom prst="rect">
            <a:avLst/>
          </a:prstGeom>
          <a:noFill/>
          <a:ln w="0">
            <a:noFill/>
          </a:ln>
        </p:spPr>
        <p:style>
          <a:lnRef idx="0"/>
          <a:fillRef idx="0"/>
          <a:effectRef idx="0"/>
          <a:fontRef idx="minor"/>
        </p:style>
        <p:txBody>
          <a:bodyPr lIns="685440"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ον τρόπο αυτό κάθε μαθητής έχει τη δυνατότητα να βλέπει, να παρακολουθεί και να κατανοεί καλύτερα τους άλλους, ενώ παράλληλα η μη λεκτική επικοινωνία εμπλουτίζει την λεκτική, καθώς οι μαθητές μπορούν να βλέπονται κατά πρόσωπο,  γεγονός που βελτιώνει σημαντικά την συναισθηματική και κοινωνική ατμόσφαιρα της τάξης ( Δημητρόπουλος, 2003).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324000" y="888840"/>
            <a:ext cx="8424720" cy="540072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κατά ομάδες διάταξη</a:t>
            </a:r>
            <a:br>
              <a:rPr sz="2400"/>
            </a:br>
            <a:br>
              <a:rPr sz="2400"/>
            </a:br>
            <a:r>
              <a:rPr b="0" lang="el-GR" sz="24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 </a:t>
            </a:r>
            <a:br>
              <a:rPr sz="2400"/>
            </a:b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250920" y="1108080"/>
            <a:ext cx="8497800" cy="496080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κυκλική διάταξη</a:t>
            </a:r>
            <a:br>
              <a:rPr sz="2800"/>
            </a:br>
            <a:br>
              <a:rPr sz="2800"/>
            </a:br>
            <a:r>
              <a:rPr b="0" lang="el-GR" sz="2800" spc="-1" strike="noStrike">
                <a:solidFill>
                  <a:srgbClr val="000000"/>
                </a:solidFill>
                <a:latin typeface="Times New Roman"/>
              </a:rPr>
              <a:t>Η κυκλική διάταξη εξασφαλίζει την πολύ καλή επαφή. Όλοι μπορούν να βλέπουν   όλους τους υπόλοιπους και να αισθάνονται ίσοι έναντι όλων καθώς βρίσκονται σε έναν ενιαίο κύκλο ή μπορεί να βρίσκονται και σε μικρούς ομόκεντρους κύκλους με το δάσκαλο να κινείται μεταξύ των κύκλων ή να εντάσσεται περιστασιακά σε κάποιον από τους κύκλους (Δημητρόπουλος, 2003). </a:t>
            </a:r>
            <a:br>
              <a:rPr sz="2400"/>
            </a:b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0" y="115920"/>
            <a:ext cx="9140760" cy="6548400"/>
            <a:chOff x="0" y="115920"/>
            <a:chExt cx="9140760" cy="6548400"/>
          </a:xfrm>
        </p:grpSpPr>
        <p:grpSp>
          <p:nvGrpSpPr>
            <p:cNvPr id="658" name=""/>
            <p:cNvGrpSpPr/>
            <p:nvPr/>
          </p:nvGrpSpPr>
          <p:grpSpPr>
            <a:xfrm>
              <a:off x="0" y="115920"/>
              <a:ext cx="9140760" cy="6548400"/>
              <a:chOff x="0" y="115920"/>
              <a:chExt cx="9140760" cy="6548400"/>
            </a:xfrm>
          </p:grpSpPr>
          <p:sp>
            <p:nvSpPr>
              <p:cNvPr id="6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4" name="" descr=""/>
          <p:cNvPicPr/>
          <p:nvPr/>
        </p:nvPicPr>
        <p:blipFill>
          <a:blip r:embed="rId3"/>
          <a:stretch/>
        </p:blipFill>
        <p:spPr>
          <a:xfrm>
            <a:off x="250920" y="333360"/>
            <a:ext cx="1417680" cy="879480"/>
          </a:xfrm>
          <a:prstGeom prst="rect">
            <a:avLst/>
          </a:prstGeom>
          <a:ln w="0">
            <a:noFill/>
          </a:ln>
        </p:spPr>
      </p:pic>
      <p:sp>
        <p:nvSpPr>
          <p:cNvPr id="665" name=""/>
          <p:cNvSpPr/>
          <p:nvPr/>
        </p:nvSpPr>
        <p:spPr>
          <a:xfrm>
            <a:off x="395280" y="1071720"/>
            <a:ext cx="8353440" cy="503388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διάταξη σε σχήμα σταυρού</a:t>
            </a:r>
            <a:br>
              <a:rPr sz="2400"/>
            </a:br>
            <a:r>
              <a:rPr b="0" lang="el-GR" sz="24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 δημιουργώντας παράλληλα στους μαθητές μια αίσθηση εγγύτητας με τον δάσκαλο. </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6" name=""/>
          <p:cNvGrpSpPr/>
          <p:nvPr/>
        </p:nvGrpSpPr>
        <p:grpSpPr>
          <a:xfrm>
            <a:off x="0" y="115920"/>
            <a:ext cx="9140760" cy="6548400"/>
            <a:chOff x="0" y="115920"/>
            <a:chExt cx="9140760" cy="6548400"/>
          </a:xfrm>
        </p:grpSpPr>
        <p:grpSp>
          <p:nvGrpSpPr>
            <p:cNvPr id="667" name=""/>
            <p:cNvGrpSpPr/>
            <p:nvPr/>
          </p:nvGrpSpPr>
          <p:grpSpPr>
            <a:xfrm>
              <a:off x="0" y="115920"/>
              <a:ext cx="9140760" cy="6548400"/>
              <a:chOff x="0" y="115920"/>
              <a:chExt cx="9140760" cy="6548400"/>
            </a:xfrm>
          </p:grpSpPr>
          <p:sp>
            <p:nvSpPr>
              <p:cNvPr id="6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3"/>
          <a:stretch/>
        </p:blipFill>
        <p:spPr>
          <a:xfrm>
            <a:off x="250920" y="333360"/>
            <a:ext cx="1417680" cy="879480"/>
          </a:xfrm>
          <a:prstGeom prst="rect">
            <a:avLst/>
          </a:prstGeom>
          <a:ln w="0">
            <a:noFill/>
          </a:ln>
        </p:spPr>
      </p:pic>
      <p:sp>
        <p:nvSpPr>
          <p:cNvPr id="674" name=""/>
          <p:cNvSpPr/>
          <p:nvPr/>
        </p:nvSpPr>
        <p:spPr>
          <a:xfrm>
            <a:off x="0" y="909720"/>
            <a:ext cx="8820000" cy="4971960"/>
          </a:xfrm>
          <a:prstGeom prst="rect">
            <a:avLst/>
          </a:prstGeom>
          <a:noFill/>
          <a:ln w="0">
            <a:noFill/>
          </a:ln>
        </p:spPr>
        <p:style>
          <a:lnRef idx="0"/>
          <a:fillRef idx="0"/>
          <a:effectRef idx="0"/>
          <a:fontRef idx="minor"/>
        </p:style>
        <p:txBody>
          <a:bodyPr lIns="57132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ιλογή της κατάλληλης διάταξης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0" y="115920"/>
            <a:ext cx="9140760" cy="6548400"/>
            <a:chOff x="0" y="115920"/>
            <a:chExt cx="9140760" cy="6548400"/>
          </a:xfrm>
        </p:grpSpPr>
        <p:grpSp>
          <p:nvGrpSpPr>
            <p:cNvPr id="676" name=""/>
            <p:cNvGrpSpPr/>
            <p:nvPr/>
          </p:nvGrpSpPr>
          <p:grpSpPr>
            <a:xfrm>
              <a:off x="0" y="115920"/>
              <a:ext cx="9140760" cy="6548400"/>
              <a:chOff x="0" y="115920"/>
              <a:chExt cx="9140760" cy="6548400"/>
            </a:xfrm>
          </p:grpSpPr>
          <p:sp>
            <p:nvSpPr>
              <p:cNvPr id="6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
        <p:nvSpPr>
          <p:cNvPr id="683" name=""/>
          <p:cNvSpPr/>
          <p:nvPr/>
        </p:nvSpPr>
        <p:spPr>
          <a:xfrm>
            <a:off x="250920" y="1100160"/>
            <a:ext cx="8893080" cy="4591080"/>
          </a:xfrm>
          <a:prstGeom prst="rect">
            <a:avLst/>
          </a:prstGeom>
          <a:noFill/>
          <a:ln w="0">
            <a:noFill/>
          </a:ln>
        </p:spPr>
        <p:style>
          <a:lnRef idx="0"/>
          <a:fillRef idx="0"/>
          <a:effectRef idx="0"/>
          <a:fontRef idx="minor"/>
        </p:style>
        <p:txBody>
          <a:bodyPr lIns="57132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οργάνωση και η διάταξη της τάξης σχετίζονται άμεσα με τη διδακτική μεθοδολογία που χρησιμοποιείται από τον εκπαιδευτικό και τους στόχους που τίθενται από αυτόν. </a:t>
            </a:r>
            <a:br>
              <a:rPr sz="2800"/>
            </a:br>
            <a:r>
              <a:rPr b="0" lang="el-GR" sz="2800" spc="-1" strike="noStrike">
                <a:solidFill>
                  <a:srgbClr val="000000"/>
                </a:solidFill>
                <a:latin typeface="Times New Roman"/>
              </a:rPr>
              <a:t>Για παράδειγμα,  δεν υπάρχει λόγος να οργανωθεί η τάξη σε μικρές ομάδες σε κύκλους όταν ο καθηγητής κάθεται στην έδρα και τους κάνει μια διάλεξη, εφόσον δεν αξιοποιείται η ομαδοσυνεργατική μέθοδος διδασκαλίας, η οποία ευνοείται από την κατά ομάδες διάταξη (Δημητρόπουλος (2003)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0" y="115920"/>
            <a:ext cx="9140760" cy="6548400"/>
            <a:chOff x="0" y="115920"/>
            <a:chExt cx="9140760" cy="6548400"/>
          </a:xfrm>
        </p:grpSpPr>
        <p:grpSp>
          <p:nvGrpSpPr>
            <p:cNvPr id="685" name=""/>
            <p:cNvGrpSpPr/>
            <p:nvPr/>
          </p:nvGrpSpPr>
          <p:grpSpPr>
            <a:xfrm>
              <a:off x="0" y="115920"/>
              <a:ext cx="9140760" cy="6548400"/>
              <a:chOff x="0" y="115920"/>
              <a:chExt cx="9140760" cy="6548400"/>
            </a:xfrm>
          </p:grpSpPr>
          <p:sp>
            <p:nvSpPr>
              <p:cNvPr id="6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
        <p:nvSpPr>
          <p:cNvPr id="692" name=""/>
          <p:cNvSpPr/>
          <p:nvPr/>
        </p:nvSpPr>
        <p:spPr>
          <a:xfrm>
            <a:off x="539640" y="2065320"/>
            <a:ext cx="820908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μετωπική διάταξη διευκολύνει τη δασκαλοκεντρική και μονολογική μορφή διδασκαλίας, διότι προσφέρει τη δυνατότητα της άνετης επικοινωνίας μεταξύ εκπαιδευτικού και μαθητών, ενώ ταυτόχρονα ελαχιστοποιεί τη δυνατότητα της διαμαθητικής επικοινωνίας (Ματσαγγούρας, 2008</a:t>
            </a:r>
            <a:r>
              <a:rPr b="0" lang="el-GR" sz="1200" spc="-1" strike="noStrike">
                <a:solidFill>
                  <a:srgbClr val="000000"/>
                </a:solidFill>
                <a:latin typeface="Times New Roman"/>
                <a:ea typeface="Times New Roman"/>
              </a:rPr>
              <a:t>). </a:t>
            </a:r>
            <a:br>
              <a:rPr sz="800"/>
            </a:b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0" y="115920"/>
            <a:ext cx="9140760" cy="6548400"/>
            <a:chOff x="0" y="115920"/>
            <a:chExt cx="9140760" cy="6548400"/>
          </a:xfrm>
        </p:grpSpPr>
        <p:grpSp>
          <p:nvGrpSpPr>
            <p:cNvPr id="694" name=""/>
            <p:cNvGrpSpPr/>
            <p:nvPr/>
          </p:nvGrpSpPr>
          <p:grpSpPr>
            <a:xfrm>
              <a:off x="0" y="115920"/>
              <a:ext cx="9140760" cy="6548400"/>
              <a:chOff x="0" y="115920"/>
              <a:chExt cx="9140760" cy="6548400"/>
            </a:xfrm>
          </p:grpSpPr>
          <p:sp>
            <p:nvSpPr>
              <p:cNvPr id="6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
        <p:nvSpPr>
          <p:cNvPr id="701" name=""/>
          <p:cNvSpPr/>
          <p:nvPr/>
        </p:nvSpPr>
        <p:spPr>
          <a:xfrm>
            <a:off x="250920" y="1233360"/>
            <a:ext cx="8642160" cy="4710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 New Roman"/>
              </a:rPr>
              <a:t>Η διάταξη σε σχήμα Π ή  σε σχήμα ημικυκλίου μεγιστοποιεί τη δυνατότητα διαμαθητικής επικοινωνίας (</a:t>
            </a:r>
            <a:r>
              <a:rPr b="0" lang="en-US" sz="2800" spc="-1" strike="noStrike">
                <a:solidFill>
                  <a:srgbClr val="000000"/>
                </a:solidFill>
                <a:latin typeface="Times New Roman"/>
                <a:ea typeface="Times New Roman"/>
              </a:rPr>
              <a:t>Lambert</a:t>
            </a:r>
            <a:r>
              <a:rPr b="0" lang="el-GR" sz="2800" spc="-1" strike="noStrike">
                <a:solidFill>
                  <a:srgbClr val="000000"/>
                </a:solidFill>
                <a:latin typeface="Times New Roman"/>
                <a:ea typeface="Times New Roman"/>
              </a:rPr>
              <a:t>, 1995 στο Ματσαγγούρας, 2008), αλλά προσφέρεται άριστα και για δασκαλομαθητική επικοινωνία, επειδή όλοι οι μαθητές αισθάνονται ότι είναι κοντά στον εκπαιδευτικό και όχι απομακρυσμένοι  όπως συμβαίνει με τους μαθητές των τελευταίων θρανίων στις μακρόστενες και με μετωπική διάταξη τάξεις (Ματσαγγούρας, 2008</a:t>
            </a:r>
            <a:r>
              <a:rPr b="0" lang="el-GR" sz="2400" spc="-1" strike="noStrike">
                <a:solidFill>
                  <a:srgbClr val="000000"/>
                </a:solidFill>
                <a:latin typeface="Times New Roman"/>
                <a:ea typeface="Times New Roman"/>
              </a:rPr>
              <a:t>). </a:t>
            </a:r>
            <a:br>
              <a:rPr sz="800"/>
            </a:b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2" name=""/>
          <p:cNvGrpSpPr/>
          <p:nvPr/>
        </p:nvGrpSpPr>
        <p:grpSpPr>
          <a:xfrm>
            <a:off x="0" y="115920"/>
            <a:ext cx="9140760" cy="6548400"/>
            <a:chOff x="0" y="115920"/>
            <a:chExt cx="9140760" cy="6548400"/>
          </a:xfrm>
        </p:grpSpPr>
        <p:grpSp>
          <p:nvGrpSpPr>
            <p:cNvPr id="703" name=""/>
            <p:cNvGrpSpPr/>
            <p:nvPr/>
          </p:nvGrpSpPr>
          <p:grpSpPr>
            <a:xfrm>
              <a:off x="0" y="115920"/>
              <a:ext cx="9140760" cy="6548400"/>
              <a:chOff x="0" y="115920"/>
              <a:chExt cx="9140760" cy="6548400"/>
            </a:xfrm>
          </p:grpSpPr>
          <p:sp>
            <p:nvSpPr>
              <p:cNvPr id="7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3"/>
          <a:stretch/>
        </p:blipFill>
        <p:spPr>
          <a:xfrm>
            <a:off x="250920" y="333360"/>
            <a:ext cx="1417680" cy="879480"/>
          </a:xfrm>
          <a:prstGeom prst="rect">
            <a:avLst/>
          </a:prstGeom>
          <a:ln w="0">
            <a:noFill/>
          </a:ln>
        </p:spPr>
      </p:pic>
      <p:sp>
        <p:nvSpPr>
          <p:cNvPr id="710" name=""/>
          <p:cNvSpPr/>
          <p:nvPr/>
        </p:nvSpPr>
        <p:spPr>
          <a:xfrm>
            <a:off x="250920" y="1836720"/>
            <a:ext cx="8642160" cy="3505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Τα πλεονεκτήματα της ημικυκλικής διάταξης οφείλονται στο φυσικό πλησίασμα που εξασφαλίζει στον εκπαιδευτικό και στους μαθητές τη δυνατότητα της οπτικής επαφής, καθώς όπως υποστηρίζουν πολλοί κοινωνικοί ψυχολόγοι, τα μάτια παίζουν πρωταρχικό ρόλο στη διαπροσωπική επικοινωνία ανάμεσα στους ανθρώπους (Βρεττός, 1994 στο Ματσαγγούρας, 2008).  </a:t>
            </a:r>
            <a:br>
              <a:rPr sz="2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2985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1" name=""/>
          <p:cNvGrpSpPr/>
          <p:nvPr/>
        </p:nvGrpSpPr>
        <p:grpSpPr>
          <a:xfrm>
            <a:off x="0" y="115920"/>
            <a:ext cx="9140760" cy="6548400"/>
            <a:chOff x="0" y="115920"/>
            <a:chExt cx="9140760" cy="6548400"/>
          </a:xfrm>
        </p:grpSpPr>
        <p:grpSp>
          <p:nvGrpSpPr>
            <p:cNvPr id="712" name=""/>
            <p:cNvGrpSpPr/>
            <p:nvPr/>
          </p:nvGrpSpPr>
          <p:grpSpPr>
            <a:xfrm>
              <a:off x="0" y="115920"/>
              <a:ext cx="9140760" cy="6548400"/>
              <a:chOff x="0" y="115920"/>
              <a:chExt cx="9140760" cy="6548400"/>
            </a:xfrm>
          </p:grpSpPr>
          <p:sp>
            <p:nvSpPr>
              <p:cNvPr id="7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8" name="" descr=""/>
          <p:cNvPicPr/>
          <p:nvPr/>
        </p:nvPicPr>
        <p:blipFill>
          <a:blip r:embed="rId3"/>
          <a:stretch/>
        </p:blipFill>
        <p:spPr>
          <a:xfrm>
            <a:off x="250920" y="333360"/>
            <a:ext cx="1417680" cy="879480"/>
          </a:xfrm>
          <a:prstGeom prst="rect">
            <a:avLst/>
          </a:prstGeom>
          <a:ln w="0">
            <a:noFill/>
          </a:ln>
        </p:spPr>
      </p:pic>
      <p:sp>
        <p:nvSpPr>
          <p:cNvPr id="719" name=""/>
          <p:cNvSpPr/>
          <p:nvPr/>
        </p:nvSpPr>
        <p:spPr>
          <a:xfrm>
            <a:off x="539640" y="1387440"/>
            <a:ext cx="82090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Times New Roman"/>
              </a:rPr>
              <a:t>Η τοποθέτηση των θρανίων ανά δύο ή τρία (αντικριστά) αποτελεί την καταλληλότερη επιλογή διάταξης για την κατά ομάδες διδασκαλία (ομαδοσυνεργατική μέθοδος). Αν  ο δάσκαλος προτιμά τη δασκαλοκεντρική διδασκαλία, το σχήμα αυτό δεν προσφέρεται, καθώς σε στιγμές χαλάρωσης των μαθητών ευνοεί τις μεταξύ τους συζητήσεις. Ακόμη είναι πιο δύσκολο για το δάσκαλο να επαναφέρει την ηρεμία  στην τάξη </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έδρα(του διδάσκοντα) συνήθως βρίσκεται</a:t>
            </a:r>
            <a:br>
              <a:rPr sz="2800"/>
            </a:br>
            <a:r>
              <a:rPr b="0" lang="el-GR" sz="2800" spc="-1" strike="noStrike">
                <a:solidFill>
                  <a:srgbClr val="000000"/>
                </a:solidFill>
                <a:latin typeface="Times New Roman"/>
              </a:rPr>
              <a:t>πάνω σε βάθρο,  έτσι ώστε να εξασφαλίζεται </a:t>
            </a:r>
            <a:br>
              <a:rPr sz="2800"/>
            </a:br>
            <a:r>
              <a:rPr b="0" lang="el-GR" sz="2800" spc="-1" strike="noStrike">
                <a:solidFill>
                  <a:srgbClr val="000000"/>
                </a:solidFill>
                <a:latin typeface="Times New Roman"/>
              </a:rPr>
              <a:t>ο οπτικός έλεγχος της τάξης,</a:t>
            </a:r>
            <a:br>
              <a:rPr sz="2800"/>
            </a:br>
            <a:br>
              <a:rPr sz="2800"/>
            </a:b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θέση της έδρας παραμένει </a:t>
            </a:r>
            <a:br>
              <a:rPr sz="2800"/>
            </a:br>
            <a:r>
              <a:rPr b="0" lang="el-GR" sz="2800" spc="-1" strike="noStrike">
                <a:solidFill>
                  <a:srgbClr val="000000"/>
                </a:solidFill>
                <a:latin typeface="Times New Roman"/>
              </a:rPr>
              <a:t>δίπλα στον πίνακα, </a:t>
            </a:r>
            <a:br>
              <a:rPr sz="2800"/>
            </a:br>
            <a:r>
              <a:rPr b="0" lang="el-GR" sz="2800" spc="-1" strike="noStrike">
                <a:solidFill>
                  <a:srgbClr val="000000"/>
                </a:solidFill>
                <a:latin typeface="Times New Roman"/>
              </a:rPr>
              <a:t>προς την πλευρά των παραθύρων</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συμβολικά εκπαιδευτικά σημεία</a:t>
            </a:r>
            <a:r>
              <a:rPr b="0" lang="en-US" sz="2800" spc="-1" strike="noStrike">
                <a:solidFill>
                  <a:srgbClr val="000000"/>
                </a:solidFill>
                <a:latin typeface="Times New Roman"/>
              </a:rPr>
              <a:t> </a:t>
            </a:r>
            <a:r>
              <a:rPr b="0" lang="el-GR" sz="2800" spc="-1" strike="noStrike">
                <a:solidFill>
                  <a:srgbClr val="000000"/>
                </a:solidFill>
                <a:latin typeface="Times New Roman"/>
              </a:rPr>
              <a:t>αναφοράς που κυριαρχούν στο χώρο,</a:t>
            </a:r>
            <a:br>
              <a:rPr sz="2800"/>
            </a:br>
            <a:r>
              <a:rPr b="0" lang="el-GR" sz="2800" spc="-1" strike="noStrike">
                <a:solidFill>
                  <a:srgbClr val="000000"/>
                </a:solidFill>
                <a:latin typeface="Times New Roman"/>
              </a:rPr>
              <a:t>όπως: ο μαυρο-πίνακας, η έδρα του διδάσκοντα</a:t>
            </a:r>
            <a:br>
              <a:rPr sz="2800"/>
            </a:br>
            <a:r>
              <a:rPr b="0" lang="el-GR" sz="2800" spc="-1" strike="noStrike">
                <a:solidFill>
                  <a:srgbClr val="000000"/>
                </a:solidFill>
                <a:latin typeface="Times New Roman"/>
              </a:rPr>
              <a:t>τα οποία παραμένουν τα ίδια και</a:t>
            </a:r>
            <a:br>
              <a:rPr sz="2800"/>
            </a:br>
            <a:r>
              <a:rPr b="0" lang="el-GR" sz="2800" spc="-1" strike="noStrike">
                <a:solidFill>
                  <a:srgbClr val="000000"/>
                </a:solidFill>
                <a:latin typeface="Times New Roman"/>
              </a:rPr>
              <a:t>στις ίδιες θέσεις.</a:t>
            </a:r>
            <a:br>
              <a:rPr sz="2800"/>
            </a:b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α τελευταία χρόνια παρατηρούνται μικρές διαφοροποιήσεις που συνδέονται με την ύπαρξη και τη θέση ηλεκτρονικού υπολογιστή ή διαδραστικού πίνακα ή και άλλων τύπων πινάκων (πχ. πίνακας μαρκαδόρου)και άλλων</a:t>
            </a:r>
            <a:br>
              <a:rPr sz="2800"/>
            </a:br>
            <a:r>
              <a:rPr b="0" lang="el-GR" sz="2800" spc="-1" strike="noStrike">
                <a:solidFill>
                  <a:srgbClr val="000000"/>
                </a:solidFill>
                <a:latin typeface="Times New Roman"/>
              </a:rPr>
              <a:t>εποπτικών μέσων διδασκαλίας  στην αίθουσα </a:t>
            </a:r>
            <a:br>
              <a:rPr sz="2800"/>
            </a:br>
            <a:r>
              <a:rPr b="0" lang="el-GR" sz="2800" spc="-1" strike="noStrike">
                <a:solidFill>
                  <a:srgbClr val="000000"/>
                </a:solidFill>
                <a:latin typeface="Times New Roman"/>
              </a:rPr>
              <a:t> ή άλλου εκπαιδευτικού υλικού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2400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ελληνικό σχολείο και ιδίως στην αίθουσα διδασκαλίας επικρατούν χαρακτηριστικά όπως</a:t>
            </a:r>
            <a:br>
              <a:rPr sz="2800"/>
            </a:br>
            <a:r>
              <a:rPr b="0" lang="el-GR" sz="2800" spc="-1" strike="noStrike">
                <a:solidFill>
                  <a:srgbClr val="000000"/>
                </a:solidFill>
                <a:latin typeface="Times New Roman"/>
              </a:rPr>
              <a:t>η τυποποίηση,(π.χ. διάταξη θρανίων σε σειρές), ο χαμηλός βαθμός πολυπλοκότητας,</a:t>
            </a:r>
            <a:br>
              <a:rPr sz="2800"/>
            </a:br>
            <a:r>
              <a:rPr b="0" lang="el-GR" sz="2800" spc="-1" strike="noStrike">
                <a:solidFill>
                  <a:srgbClr val="000000"/>
                </a:solidFill>
                <a:latin typeface="Times New Roman"/>
              </a:rPr>
              <a:t>ο κλειστός χαρακτήρας λειτουργίας της αίθουσας </a:t>
            </a:r>
            <a:br>
              <a:rPr sz="2800"/>
            </a:br>
            <a:r>
              <a:rPr b="0" lang="el-GR" sz="2800" spc="-1" strike="noStrike">
                <a:solidFill>
                  <a:srgbClr val="000000"/>
                </a:solidFill>
                <a:latin typeface="Times New Roman"/>
              </a:rPr>
              <a:t> που οδηγούν στην αποξένωση του σχολικού χώρου </a:t>
            </a:r>
            <a:br>
              <a:rPr sz="2800"/>
            </a:br>
            <a:r>
              <a:rPr b="0" lang="el-GR" sz="2800" spc="-1" strike="noStrike">
                <a:solidFill>
                  <a:srgbClr val="000000"/>
                </a:solidFill>
                <a:latin typeface="Times New Roman"/>
              </a:rPr>
              <a:t>από το περιεχόμενο της εκπαιδευτικής διαδικασίας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αισθητική και διακόσμηση της αίθουσας φαίνεται να μην λαμβάνει υπόψη</a:t>
            </a:r>
            <a:br>
              <a:rPr sz="2800"/>
            </a:br>
            <a:r>
              <a:rPr b="0" lang="el-GR" sz="2800" spc="-1" strike="noStrike">
                <a:solidFill>
                  <a:srgbClr val="000000"/>
                </a:solidFill>
                <a:latin typeface="Times New Roman"/>
              </a:rPr>
              <a:t> την ηλικία και τις προτιμήσεις των μαθητών, </a:t>
            </a:r>
            <a:br>
              <a:rPr sz="2800"/>
            </a:br>
            <a:r>
              <a:rPr b="0" lang="el-GR" sz="2800" spc="-1" strike="noStrike">
                <a:solidFill>
                  <a:srgbClr val="000000"/>
                </a:solidFill>
                <a:latin typeface="Times New Roman"/>
              </a:rPr>
              <a:t>αλλά και</a:t>
            </a:r>
            <a:br>
              <a:rPr sz="2800"/>
            </a:br>
            <a:r>
              <a:rPr b="0" lang="el-GR" sz="2800" spc="-1" strike="noStrike">
                <a:solidFill>
                  <a:srgbClr val="000000"/>
                </a:solidFill>
                <a:latin typeface="Times New Roman"/>
              </a:rPr>
              <a:t> το περιεχόμενο της εκπαιδευτικής διαδικασίας.</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24000" y="134136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Αυτά τα χαρακτηριστικά  της αίθουσας διδασκαλίας οδηγούν σε πάγιες και αναμενόμενες μορφές αλληλεπίδρασης παιδαγωγικών και  διδακτικών πρακτικών </a:t>
            </a:r>
            <a:br>
              <a:rPr sz="2800"/>
            </a:br>
            <a:r>
              <a:rPr b="0" lang="el-GR" sz="2800" spc="-1" strike="noStrike">
                <a:solidFill>
                  <a:srgbClr val="000000"/>
                </a:solidFill>
                <a:latin typeface="Times New Roman"/>
              </a:rPr>
              <a:t>που δεν έχουν καμία  συσχέτιση  με τις  παιδαγωγικές προσεγγίσεις </a:t>
            </a:r>
            <a:br>
              <a:rPr sz="2800"/>
            </a:br>
            <a:r>
              <a:rPr b="0" lang="el-GR" sz="2800" spc="-1" strike="noStrike">
                <a:solidFill>
                  <a:srgbClr val="000000"/>
                </a:solidFill>
                <a:latin typeface="Times New Roman"/>
              </a:rPr>
              <a:t>περί μαθητοκεντρικής διδασκαλίας </a:t>
            </a:r>
            <a:br>
              <a:rPr sz="2800"/>
            </a:br>
            <a:r>
              <a:rPr b="0" lang="el-GR" sz="2800" spc="-1" strike="noStrike">
                <a:solidFill>
                  <a:srgbClr val="000000"/>
                </a:solidFill>
                <a:latin typeface="Times New Roman"/>
              </a:rPr>
              <a:t>και ομαδοσυνεργατικής μάθησης.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324000" y="134136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Μάλλον φαίνεται να διαιωνίζεται</a:t>
            </a:r>
            <a:br>
              <a:rPr sz="2800"/>
            </a:br>
            <a:r>
              <a:rPr b="0" lang="el-GR" sz="2800" spc="-1" strike="noStrike">
                <a:solidFill>
                  <a:srgbClr val="000000"/>
                </a:solidFill>
                <a:latin typeface="Times New Roman"/>
              </a:rPr>
              <a:t> η δασκαλοκεντρική διδασκαλία, η οποία φαίνεται να ενισχύεται από μια φτωχή σε ερεθίσματα και ακατάλληλη και μη εξοπλισμένη σχολική αίθουσα.</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ίθουσα διδασκαλίας </a:t>
            </a:r>
            <a:br>
              <a:rPr sz="2800"/>
            </a:br>
            <a:r>
              <a:rPr b="0" lang="el-GR" sz="2800" spc="-1" strike="noStrike">
                <a:solidFill>
                  <a:srgbClr val="000000"/>
                </a:solidFill>
                <a:latin typeface="Times New Roman"/>
              </a:rPr>
              <a:t> είναι το  τμήμα του σχολικού κτιρίου στο οποίο πραγματοποιούνται κατά κύριο λόγο 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02" name="" descr=""/>
          <p:cNvPicPr/>
          <p:nvPr/>
        </p:nvPicPr>
        <p:blipFill>
          <a:blip r:embed="rId1"/>
          <a:stretch/>
        </p:blipFill>
        <p:spPr>
          <a:xfrm>
            <a:off x="0" y="0"/>
            <a:ext cx="9144000" cy="1368360"/>
          </a:xfrm>
          <a:prstGeom prst="rect">
            <a:avLst/>
          </a:prstGeom>
          <a:ln w="0">
            <a:noFill/>
          </a:ln>
        </p:spPr>
      </p:pic>
      <p:pic>
        <p:nvPicPr>
          <p:cNvPr id="803" name="" descr=""/>
          <p:cNvPicPr/>
          <p:nvPr/>
        </p:nvPicPr>
        <p:blipFill>
          <a:blip r:embed="rId2"/>
          <a:stretch/>
        </p:blipFill>
        <p:spPr>
          <a:xfrm>
            <a:off x="1258920" y="2060640"/>
            <a:ext cx="1297080" cy="1528560"/>
          </a:xfrm>
          <a:prstGeom prst="rect">
            <a:avLst/>
          </a:prstGeom>
          <a:ln w="0">
            <a:noFill/>
          </a:ln>
        </p:spPr>
      </p:pic>
      <p:pic>
        <p:nvPicPr>
          <p:cNvPr id="804" name="" descr=""/>
          <p:cNvPicPr/>
          <p:nvPr/>
        </p:nvPicPr>
        <p:blipFill>
          <a:blip r:embed="rId3"/>
          <a:stretch/>
        </p:blipFill>
        <p:spPr>
          <a:xfrm>
            <a:off x="6948360" y="1989000"/>
            <a:ext cx="1444680" cy="1573200"/>
          </a:xfrm>
          <a:prstGeom prst="rect">
            <a:avLst/>
          </a:prstGeom>
          <a:ln w="0">
            <a:noFill/>
          </a:ln>
        </p:spPr>
      </p:pic>
      <p:sp>
        <p:nvSpPr>
          <p:cNvPr id="805"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80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διαρρύθμιση του χώρου της αίθουσας διδασκαλίας, ουσιαστικά δεν έχει διαφοροποιηθεί και εμφανίζει απίστευτες ομοιότητες τα τελευταία  χρόνια παρά τις εξελίξεις της Παιδαγωγικής επιστήμης και της Τεχνολογίας.</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ιαίτερη εντύπωση προκαλούν τα ακόλουθα διαχρονικά χαρακτηριστικά :</a:t>
            </a:r>
            <a:br>
              <a:rPr sz="2800"/>
            </a:br>
            <a:br>
              <a:rPr sz="2800"/>
            </a:br>
            <a:r>
              <a:rPr b="0" lang="el-GR" sz="2800" spc="-1" strike="noStrike">
                <a:solidFill>
                  <a:srgbClr val="000000"/>
                </a:solidFill>
                <a:latin typeface="Times New Roman"/>
              </a:rPr>
              <a:t>• Η διάταξη των θρανίων δε μεταβάλλεται εύκολα. </a:t>
            </a:r>
            <a:br>
              <a:rPr sz="2800"/>
            </a:br>
            <a:r>
              <a:rPr b="0" lang="el-GR" sz="2800" spc="-1" strike="noStrike">
                <a:solidFill>
                  <a:srgbClr val="000000"/>
                </a:solidFill>
                <a:latin typeface="Times New Roman"/>
              </a:rPr>
              <a:t>Τις περισσότερες φορές τα θρανία  </a:t>
            </a:r>
            <a:br>
              <a:rPr sz="2800"/>
            </a:br>
            <a:r>
              <a:rPr b="0" lang="el-GR" sz="2800" spc="-1" strike="noStrike">
                <a:solidFill>
                  <a:srgbClr val="000000"/>
                </a:solidFill>
                <a:latin typeface="Times New Roman"/>
              </a:rPr>
              <a:t>τοποθετούνται σε παράλληλες σειρές </a:t>
            </a:r>
            <a:br>
              <a:rPr sz="2800"/>
            </a:br>
            <a:r>
              <a:rPr b="0" lang="el-GR" sz="2800" spc="-1" strike="noStrike">
                <a:solidFill>
                  <a:srgbClr val="000000"/>
                </a:solidFill>
                <a:latin typeface="Times New Roman"/>
              </a:rPr>
              <a:t>με προσανατολισμό στον πίνακα,</a:t>
            </a:r>
            <a:br>
              <a:rPr sz="2800"/>
            </a:b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
        <p:nvSpPr>
          <p:cNvPr id="593" name=""/>
          <p:cNvSpPr/>
          <p:nvPr/>
        </p:nvSpPr>
        <p:spPr>
          <a:xfrm>
            <a:off x="250920" y="874800"/>
            <a:ext cx="8569080" cy="4971960"/>
          </a:xfrm>
          <a:prstGeom prst="rect">
            <a:avLst/>
          </a:prstGeom>
          <a:noFill/>
          <a:ln w="0">
            <a:noFill/>
          </a:ln>
        </p:spPr>
        <p:style>
          <a:lnRef idx="0"/>
          <a:fillRef idx="0"/>
          <a:effectRef idx="0"/>
          <a:fontRef idx="minor"/>
        </p:style>
        <p:txBody>
          <a:bodyPr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Τύποι διάταξης των θρανίων </a:t>
            </a:r>
            <a:br>
              <a:rPr sz="2800"/>
            </a:b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0" lang="el-GR" sz="2800" spc="-1" strike="noStrike">
                <a:solidFill>
                  <a:srgbClr val="000000"/>
                </a:solidFill>
                <a:latin typeface="Times New Roman"/>
                <a:ea typeface="Times New Roman"/>
              </a:rPr>
              <a:t>ο παραδοσιακός τρόπος της κατά σειράς διευθέτησης των θρανίων (μετωπική διάταξη) </a:t>
            </a:r>
            <a:br>
              <a:rPr sz="2800"/>
            </a:br>
            <a:br>
              <a:rPr sz="2800"/>
            </a:br>
            <a:r>
              <a:rPr b="0" lang="el-GR" sz="2800" spc="-1" strike="noStrike">
                <a:solidFill>
                  <a:srgbClr val="000000"/>
                </a:solidFill>
                <a:latin typeface="Times New Roman"/>
                <a:ea typeface="Times New Roman"/>
              </a:rPr>
              <a:t>η κατά μικρές ομάδες διάταξη των θρανίων (2-4), </a:t>
            </a:r>
            <a:br>
              <a:rPr sz="2800"/>
            </a:b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
        <p:nvSpPr>
          <p:cNvPr id="602" name=""/>
          <p:cNvSpPr/>
          <p:nvPr/>
        </p:nvSpPr>
        <p:spPr>
          <a:xfrm>
            <a:off x="250920" y="1271520"/>
            <a:ext cx="8569080" cy="4591080"/>
          </a:xfrm>
          <a:prstGeom prst="rect">
            <a:avLst/>
          </a:prstGeom>
          <a:noFill/>
          <a:ln w="0">
            <a:noFill/>
          </a:ln>
        </p:spPr>
        <p:style>
          <a:lnRef idx="0"/>
          <a:fillRef idx="0"/>
          <a:effectRef idx="0"/>
          <a:fontRef idx="minor"/>
        </p:style>
        <p:txBody>
          <a:bodyPr tIns="253800" bIns="25560" anchor="ctr">
            <a:noAutofit/>
          </a:bodyPr>
          <a:p>
            <a:pPr algn="ctr">
              <a:spcBef>
                <a:spcPts val="26"/>
              </a:spcBef>
              <a:spcAft>
                <a:spcPts val="2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Τύποι διάταξης των θρανίων </a:t>
            </a:r>
            <a:br>
              <a:rPr sz="2800"/>
            </a:b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ή σε σχήμα Π) διάταξη, </a:t>
            </a:r>
            <a:br>
              <a:rPr sz="2800"/>
            </a:br>
            <a:br>
              <a:rPr sz="2800"/>
            </a:br>
            <a:r>
              <a:rPr b="0" lang="el-GR" sz="2800" spc="-1" strike="noStrike">
                <a:solidFill>
                  <a:srgbClr val="000000"/>
                </a:solidFill>
                <a:latin typeface="Times New Roman"/>
                <a:ea typeface="Times New Roman"/>
              </a:rPr>
              <a:t>η διάταξη τους σε σχήματα σταυρού, </a:t>
            </a:r>
            <a:br>
              <a:rPr sz="2800"/>
            </a:br>
            <a:br>
              <a:rPr sz="2800"/>
            </a:br>
            <a:r>
              <a:rPr b="0" lang="el-GR" sz="2800" spc="-1" strike="noStrike">
                <a:solidFill>
                  <a:srgbClr val="000000"/>
                </a:solidFill>
                <a:latin typeface="Times New Roman"/>
                <a:ea typeface="Times New Roman"/>
              </a:rPr>
              <a:t>η κατά ομόκεντρα ημικύκλια διάταξη </a:t>
            </a:r>
            <a:br>
              <a:rPr sz="2800"/>
            </a:br>
            <a:br>
              <a:rPr sz="2800"/>
            </a:br>
            <a:r>
              <a:rPr b="0" lang="el-GR" sz="2800" spc="-1" strike="noStrike">
                <a:solidFill>
                  <a:srgbClr val="000000"/>
                </a:solidFill>
                <a:latin typeface="Times New Roman"/>
                <a:ea typeface="Times New Roman"/>
              </a:rPr>
              <a:t>διατάξεις που συνδυάζουν στοιχεία  από διάφορους τύπους διατάξεων</a:t>
            </a:r>
            <a:r>
              <a:rPr b="0" lang="el-G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
          <p:cNvGrpSpPr/>
          <p:nvPr/>
        </p:nvGrpSpPr>
        <p:grpSpPr>
          <a:xfrm>
            <a:off x="0" y="0"/>
            <a:ext cx="9140760" cy="6548400"/>
            <a:chOff x="0" y="0"/>
            <a:chExt cx="9140760" cy="6548400"/>
          </a:xfrm>
        </p:grpSpPr>
        <p:grpSp>
          <p:nvGrpSpPr>
            <p:cNvPr id="604" name=""/>
            <p:cNvGrpSpPr/>
            <p:nvPr/>
          </p:nvGrpSpPr>
          <p:grpSpPr>
            <a:xfrm>
              <a:off x="0" y="0"/>
              <a:ext cx="9140760" cy="6548400"/>
              <a:chOff x="0" y="0"/>
              <a:chExt cx="9140760" cy="6548400"/>
            </a:xfrm>
          </p:grpSpPr>
          <p:sp>
            <p:nvSpPr>
              <p:cNvPr id="605"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
        <p:nvSpPr>
          <p:cNvPr id="611" name=""/>
          <p:cNvSpPr/>
          <p:nvPr/>
        </p:nvSpPr>
        <p:spPr>
          <a:xfrm>
            <a:off x="179280" y="762120"/>
            <a:ext cx="8785440" cy="533880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μετωπική διάταξη</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Έτσι,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 (Ματσαγγούρας, 2008).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0" y="0"/>
            <a:ext cx="9140760" cy="6548400"/>
            <a:chOff x="0" y="0"/>
            <a:chExt cx="9140760" cy="6548400"/>
          </a:xfrm>
        </p:grpSpPr>
        <p:grpSp>
          <p:nvGrpSpPr>
            <p:cNvPr id="613" name=""/>
            <p:cNvGrpSpPr/>
            <p:nvPr/>
          </p:nvGrpSpPr>
          <p:grpSpPr>
            <a:xfrm>
              <a:off x="0" y="0"/>
              <a:ext cx="9140760" cy="6548400"/>
              <a:chOff x="0" y="0"/>
              <a:chExt cx="9140760" cy="6548400"/>
            </a:xfrm>
          </p:grpSpPr>
          <p:sp>
            <p:nvSpPr>
              <p:cNvPr id="614"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179280" y="1859040"/>
            <a:ext cx="8640720" cy="314316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πικοινωνία ανάμεσα στον δάσκαλο και τους μαθητές γίνεται με τη μορφή ερωταποκρίσεων, ενώ σπάνια αναπτύσσεται ουσιαστικός διάλογος μεταξύ τους. Τέλος, η επικοινωνία ανάμεσα στους μαθητές γίνεται πάντοτε με τη διαμεσολάβηση του δασκάλου (Δημητρόπουλος, 2003).</a:t>
            </a:r>
            <a:br>
              <a:rPr sz="1800"/>
            </a:b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3:44Z</dcterms:modified>
  <cp:revision>159</cp:revision>
  <dc:subject/>
  <dc:title>Παρουσίαση του PowerPoint</dc:title>
</cp:coreProperties>
</file>